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F9E-E073-471C-AC3A-1F5E5B27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2EA-721E-4A74-B0E0-7E7D8479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D973-6BFA-498B-A746-BA9F2702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7CC-C4A9-4A2E-8381-27D23155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9E923-6E6C-4DDC-9E5C-78AEBFED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47E06-4FA7-409B-A753-EB9A318A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891D1-DAE3-403B-80D1-80498D04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BBB18-F07F-45B3-BDB6-83EAEC6A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EFE5E-9BD4-424C-8F58-3A7FD7DD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10EDE-17E4-45F5-8FA3-3AEA0E70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095CF-6FB4-45AE-8C05-CE432CF7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F82-8B0D-4A91-8DAA-1C6F36D4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E5801-EF4B-47F7-9D65-C7E981FE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1520C-167E-4097-A061-E7EBF449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EAB10-DFE0-4286-B282-B00034FB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B50C5-A140-413E-A690-806A024F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BF26F-CD28-448D-BAF3-926EE19C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5229-8239-4630-AE7D-91EECA59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1A8-C3F7-4690-AC64-6B9BBD75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4648-3FF1-49ED-B588-AF157728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4D76-FFA4-4E2B-8812-B8439530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599A-EDD8-4B31-9176-8F1A3D0E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F8F-48FC-44A9-81A4-F5B495A4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707F-E22C-4140-9347-ED7902CA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433E-7F7A-4795-A112-36386CE7FD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E942-C984-4311-AD8B-7183E76AD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acionalni program Srbija protiv rak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isitent dr sc. med. Nataša Ranči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iljevi progra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njivanje broja novoobolelih od r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njivanje broja umrli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boljšanje ranog otkrivanj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apređenje dijagnostike i leče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boljšanje kvaliteta života obolelih od raka I njihovih porod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ezbeđivanje obolelima određenog standarda u zdravstvenim uslug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apređenje naučnih istraživanja u onkologi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deći principi progra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govornost za ostvarivanje ciljeva ima cela zajedn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sektorska saradnja u očuvanju I unapređenju zdravl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vaki sektor društva ima I odgovor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ve aktivnosti zasnovane su na naučnim saznanj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veobuhvatan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tegrisan pristup: planiranje, koordinacija, praćenje, evalu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ljučne komponente progra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apređenje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romovisanje zdravl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meravanje na osobe sa rizikom ,obezbeđivanje odgovarajuće dijagnostike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erapije (sekundarna prevencij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simalno povećanje broja ljudi kojima će biti obezbeđena efikasna terapija nega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ezbeđiavnje uslova za kvalitetan život kroz rehabilitaciju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lijativno zbrinjavanje (tercijarna prevencij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even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i prvencije faktora riz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 se smanji broj pušača za 5% među mladima I za 3% među odraslima, da smanji gojaznih, da se poveća unos svežeg voća I povrća, da se poveća fizička aktivnost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kri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k grlića mate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lorektalni r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k doj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irano je da s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 petogodišnjem periodu pregled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5% žena starosti 45-69 godina na rak doj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5% žena 25-69 na rak grlića mate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na okultno krvarenje kod 40% muškaraca i žena starosti 50-70 na kolorektalni r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jagnostika 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lečen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 obuhvat obolelih bude 10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vo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ligne bolesti su drugi uzrok umiranja muškaraca i žena u Srbij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2 000 slučajeva novooboleih od raka u Srbiji svake godine, a umre oko 20 000 ljud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 Svetu 11 miliona novoobolelih-60% u zemljama u razvoju, umre oko 7 milio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lijativno zbrinjavanje I rehabilitacij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lj je poboljšanje kvaliteta života oboleli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roz prevenciju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ečenje svih patnji koje prate obolele od maligne bolesti: bol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ruge komplikacije same bolesti ili  terapijskih procedu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ontinuirana eduk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cinskog osobl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medicinskog osobl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ovniš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straživanja u onkologij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boljšabje prijavljivanja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egistracije novooboleli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mrli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traživanje genskih alter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traživanje biologije tum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vencija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podrazumeva smanjivanje visokorizičnog ponašan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rogram za prevenciju raka sprovodiće se na svim nivoima zdravstvene zaštite, primarnom (domovi zdravlja, zavodi), sekundarnom (bolnice) i tercijarnom (klinike, instituti, kliničko-bolnički centri, klinički centr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U pružanje onkološke zdravstvene zaštite uključeni su , izabrani lekari (opšta medicina, ginekologija), lekari različitih specijalnosti (interna medicina, dermatologija) u oblasti dijagnostike (radiolozi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vi nivoi zdravstvene zaštite uključeni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u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vencij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okoli lečen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tanove: Institu za onkologiju Vojvodine-Sremska Kamenica, Institut za plućne bolesti Sremska Kamenica, Institut za radiologiju I onkologiju Srbije, KBC Bežanijska Kosa-odelenje onkološke hirurg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BC Zvezdara-odelenje onkolog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C Kragujevac-Klinika za onkologij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šta bolnica Klado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inički Centar Niš, Klinika za plućne bolesti Knez S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imarna preven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dravstveno prosvećivanje stanovniš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vencija puše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apređivanje ishrane, promocija fizičke aktivnosti, prevencija gojaz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vencija infekcija značajnioh za nastanak malignih bole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vencija od prekomernog izlaganja UV zraćenj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štita od kancerogena u životnoj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adnoj sredi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Zdravstveno prosvećivanje stanovništv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rganizovanje medijskih kampanja za očuvanje i unapređenje zdravlja, rano otkrivanje i skr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bezbeđivanje adekvatnih izvora informacija (internet prezentacije, štampani materijal, info telefon...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Uključivanje nastave o zdravlju u nastavne programe u predškolskim ustanovama i školama uz saradnju sa Ministarstvom prosve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Prevencija pušen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) Zaštita od izloženosti duvanskom di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zabrana pušenja na svim javnim mest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podizanje svesti stanovništva o štetnosti pasivnog pušenja kroz medijske kampanje  i edukativne progr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) Smanjenje učestalosti pušenja u populaci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8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5. Rezolucija o kontroli i prevenciji raka na godišnjem zasedanju Generalne skupštine Svetske zdravstvene organizacije u Ženev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a rezolucija je uputila javnost na neophodnost formiranja nacionalnih progr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akcija genetske predispozicije i faktora oko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 80% faktora okoline može se utica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provođenje zakona o zabrani reklamiranja i promocije duvanskih proizvo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buka zdravstvenih, socijalnih i prosvetnih radnika tehnikama odvikavanja od pušen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Unapređenje programa za odvikavanje od pušenja na radnom mes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ovećana dostupnost farmaceutskih proizvoda koji se koriste u odvikavanju od pušen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Unapređenje ishrane, promocija fizičke aktivnosti i prevencija gojaz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omocija zdravih stilova života kroz kamp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provođenje propisa o zdravstvenoj bezbednosti i kvalitetu namirn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Značaj deklaracije na proizvodima (sastojci, kalorijska vrednost, aditivi, konzervansi...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Prevencija infekcija značajnih za nastanak malignih bole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provođenje programske imunizacije protiv hepatitisa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prečavanje transmisije hepatitisa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zrada i primena preporuka za imunizaciju protiv humaniog papiloma vir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zrada i primena preporuka za tkrivanje i lečenje infekcija bakterijom Helicobacter pylo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Prevencija i zaštita od prekomernog izlaganja UV zračenj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većanje znanja stanovništva o opasnosti od UV zrače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Kontinuirano infomisanje, edukacija zdravstvenih i prosvetnih radn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onošenje zakona vezanih za rad solarijuma i drugih veštačkih izvora UV zrače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Zaštita od izloženosti kancerogenim agensim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ofesionalna izloženo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Dugoročno praćenje oso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Zaštita od izloženosti kancerogenosti u životnoj sredi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kundarna preven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o otkrivanje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kr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o otkrivanje nasledne predispozicije za r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čenje (hirurija, radioterapija, hemioterapija, terapija matičnim ćelijam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lagođavanje postojećih kapaciteta za lečenje onkoloških pacijen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i kapacite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rcijarna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 preven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lijativno zbrinjavanje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ehabilit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apija podrš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jalna inkluzija oboleli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moćom roditeljima dece obolele od r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sticanje formiranja udruženja obolelih, roditelja obolele de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terećenje malignim bolestima u Srbiji-analiza situaci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oka incidencija i mortalitet od malignih bole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oka učestalost faktora rizika za maligne bole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dovoljno poznavanje rizičnih ponašanja I preventivnih m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 Srbiji zauzimaju drugo mesto kao uzrok umiran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ma visini standardizovane stope iz 2006. godine 202.7 na 100 000 Srbija je u grupu zemalja sa srednje visokim rizikom od umiranja od malignih bole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 godine standardizovane stope mortaliteta od raka bile su više u Vojvodini nego u Centralnoj Srbi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 periodu 1997-2007. godine uočen je porast broja umrlih od raka za 20,3%, kod muškaraca za 11.7% a kod žena za 7,0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ast umiranja od svih lokalizacija malignih tumo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deće lokalizacije rak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jčeši uzroci umiranja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kod muškaraca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kod žena bili su oni maligni tumori koji su bili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ajčešći uzrok obolevan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k pluća i bronha, kolorektalni rak, dojka, grlić materice, prostata I želuda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ajčešće lokalizacije malignih tumora kod muškarac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k pluća i bron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lorektalni r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k pro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k mokraćne beči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k želud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k pankre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ajšečće lokalizacije malignih tumora kod že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k dojk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lorektalni r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k grlića mate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k pluć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k tela mate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k želud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5:37:46Z</dcterms:created>
  <dc:creator>AZURE</dc:creator>
  <dc:description/>
  <dc:language>en-US</dc:language>
  <cp:lastModifiedBy>Intel</cp:lastModifiedBy>
  <dcterms:modified xsi:type="dcterms:W3CDTF">2011-04-11T09:50:53Z</dcterms:modified>
  <cp:revision>28</cp:revision>
  <dc:subject/>
  <dc:title>Nacionalni program Srbija protiv raka</dc:title>
</cp:coreProperties>
</file>